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EE5-1E8E-43BF-A131-B1DE46E1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E3FC-11E7-4ADA-8697-64CF416D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5C691-E2F1-48A6-AD81-691D5902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C4BFB-4286-4BA1-AC34-34271458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EF639-A403-48D6-8043-66A5A0D2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A35ED-529E-4E83-8E4F-24D4CFFD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436FA-DA15-4CDD-A943-20248816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E6216-5C54-47E5-BBC2-31BEC2E0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1940A-AE3D-4E00-90F5-BC01CC43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498B1-9DE7-48E2-9F1C-1E4B6A0A1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88AD9-CD3B-4EEA-9D5C-43EA3F68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C6E9-4360-4E5D-A85E-95DAFC81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9A5-25BF-4183-9CEB-89810237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7C564-C85C-4288-B0C6-F56BBFC4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5C4BA-7B15-49FD-A06D-58305570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1F917-A115-4BE0-A88E-E3E3C96E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449DF-F161-4439-BDF3-B90A8388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43394-B52F-4832-A4D5-8AA3E08F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E0DF7-2CBA-42DC-A5A0-6A3BDF0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46709-707A-43F8-8287-CDEA9F4D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85D7A-D7F9-49A8-95EF-8216A30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C29F-1FEE-485A-8B72-19B4518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762E1-8E7A-40BA-AD44-CC8DE39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527-C974-4193-A196-F38A0DCA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BC5C2-A474-4D67-8D9D-F7C7B7E3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B3D7-1D57-4723-9582-185657A2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31273-9F94-45E0-AB87-958B9049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970CC-ADF9-4AA3-B866-746145A5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07864-4F57-4D65-A332-64B29ED5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5F8B4-D417-4A7A-B517-4038449B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ED76-2593-46E8-B404-1B77722F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B719-B9CD-4239-8BDE-B7ED4E95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54169-4F7E-4A22-B2BB-8A5202D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9461D-C80E-4E74-9EF1-FA50AD7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4D0-C961-469D-A417-F497D722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F68C9-2CAD-4B1A-952D-05506812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53ADB-8A5D-4846-9F06-C5694CDF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6B6B6-9FDC-4C3A-B9F3-ED8B1FB2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6D700-5677-4384-8523-B2120E93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7411-5202-4D3C-AC05-DF7EA2E3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2FB6B-1EF2-4CCB-B66D-50B1487D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C636A-F1B5-4B3B-AB72-3B48BC50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61820-5814-49F7-9B5F-E7A05AF8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E86D3-2DBA-48E9-879F-3D32E6F3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88B39-92C0-4503-8BE3-A778668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A51E-1A78-4DFA-A383-6EC1044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87DC2-DFD8-478B-B805-E952CCF5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7DEA6-702D-47FB-A171-08B407D0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B7D26-FCB4-4CC9-A873-C3CBBEE8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F6147-5F04-4462-B87C-79C2D9AC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D8B5E-5187-490D-9507-7A09525A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D1767-9F12-495B-AD18-178E744A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441ECF-303B-4C47-9475-28D4BDF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127A1-58DE-4ECB-B7AC-62614F6B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12629-9BD5-4916-A71D-0F573942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E516D-1A90-48FB-A206-D93F10C9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F9B7-E6E5-4C95-BD94-F60AAD19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047B4-6A94-48D5-81FA-40AD2216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89F52-CCAC-48B5-A64B-0EB96E1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E3909-78AA-4E11-8F7D-E331CD3F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E851D-B81D-45F7-B67C-270601B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9F8025-A8AC-48D5-8F35-97A8C561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1C03D-4004-4551-95D9-C9FEA6E1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6DBC34-81B6-4FC8-861C-AD6BEF74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C5C89-36CE-4D51-B089-F6812591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932EC6-AE2B-4011-A8F6-A03DA51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E2695-95D6-46D4-B639-83488A2E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6D9C-1765-44F6-A0C6-507C35A6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DDB02-F9B5-44FE-8714-078ABC56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1CBCA-7A27-4CCE-8B04-A898248E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F0D22-A2FD-43FB-B3CF-14A61218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4D45AA-7612-4D7C-9244-04E9E36C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F94E5-DB78-4A5F-A401-C51DEE99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C7B5E-0D15-41A5-8E54-E51A91B2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520FF-1168-4CBB-90AC-50E67D6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E1EC4C-46FB-42B9-9BC9-09AEDCB1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EADA8-6A75-4FC2-898D-2E67A1364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D2614-5D64-4EB2-B501-7E925990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D677-F01B-4785-93FB-AD7A0056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7B0E11-9E3C-43D3-9B16-6B088E62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DC1710-E914-4C25-A6C7-C04ED5A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7A9332-AF8D-4737-82C3-E307731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466AD8-812A-49B3-B9C8-AE643D3E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69164-7CE9-4A47-A3C2-ED250A60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BEB3D-2613-4232-ABB6-EBC3489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A5AE18-7F99-4A46-A1A6-1E86B33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8F04F-4908-4779-A3EB-50573572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051A3-7D76-45D8-B31D-452A3323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463257-D1FF-4AE5-A265-0A283C3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FA9D-957C-4128-BDF8-0A72E13E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EA79F-0182-4ACD-B92A-BE2826927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DE253-166B-4888-9AF0-D779919E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56E00F-15F4-49A5-BC1E-57A1BE12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3D9A9-3153-4003-9AD7-C34996D5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877B6-E22E-4BB5-B900-6CCC8691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AAC0C-1729-40FA-A098-8C8E8BAE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BC2D6-B788-40BC-9CE7-074267B8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72D83-EA88-4A87-950F-6C80116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D7241-F902-46EE-85E2-93E830EA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0517E-A8EA-4A4C-B8D6-343D115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81C3-A052-4C8E-8541-A90A30FC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E58B8-746B-452D-BD79-1D531F6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E7797-44C5-4D41-874A-967EF494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62B4B4-AF1E-46A0-A2D5-FF285F89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8E1E9-2674-4CA1-8DD4-7D36995C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C7B03E-C614-455B-A43E-5E164B90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28930-BAA6-43A5-911E-B1EEDED1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8C0F3-6E30-40D3-89C4-D5B8B280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D54E2-00B7-4DD5-8ED1-593DF3C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247BF-9DB5-47EB-A23D-943522E9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77FEC5-A7CE-4EEC-8A26-8A0A8D4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23F-6807-4ADE-BD33-926D324B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A824-AAA2-4A95-87FF-32BAF3CE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C5295A-26AB-4300-AA91-CD580AD2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BAFC8A-1413-49E4-8FB0-D8F38B8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1D468-3050-4072-B8D5-D0A9BEE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62FF6-025B-44A1-96EB-0510EBF4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F35318-0E75-4743-9A6A-39CF6E11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A855D-E47B-47F1-875A-A6E92AB5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311D1-6C0A-4A9F-BB20-96CDBE5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9173EB-7BF0-48AB-BDF0-68241857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D61DD-1B34-4FDD-9778-08A09825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C0990-3FD5-499A-8929-7D79EC5D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B2B3-2405-4F86-88C7-896FA21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4D5D4-A482-4DD3-9B7B-B9F13C46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F8B64-396E-4997-97AF-0D69F4F5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7429D-C62F-4D6F-BB0E-20A3DA07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CA205-C6D1-4345-9475-DE9BF86F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49312A-2B99-433D-B6DB-8E188E1D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9D345-97B6-4B1A-AFC7-9CCA1DEF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E790A4-EC90-4AF1-A875-4FDD93D9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53484-11D4-4B3F-8D53-0E56413A6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F6B23-B122-4FE4-ADFF-D568FF3C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E2ADC3-4A5D-47EE-B226-20A031F81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26CB-B3DD-4CC3-84CE-0FE53326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27C2A-7B6E-4DC0-97D0-3C217E5C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70E2FE-ED68-4B7D-989F-A557932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C9491-5889-48A0-983A-857FD5B2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68BE39-E90D-4212-A4A8-42DF28B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2B9FA-3BCA-42C8-B723-F13D40B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C60268-D2E2-4C7E-A15A-6BE49A12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B6D5C-14B4-4880-9CDF-9358D91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63ABFB-0B40-4197-AAAE-35A2F807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A6BEE-CD34-42B7-9980-A6CED290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A0A505-CEC7-470A-A79D-DB1F76B7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E930-2D69-439B-A02E-FE03EF61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4585C-DFC1-47EF-A52D-9F4BBA16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2352E-41F3-4CDF-B0CC-EF84C05B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A2E59-3665-45F8-A834-A3B4FF7D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CCED36-7B6E-40DA-AC78-14726C98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AF311-EFB2-452B-9EA5-7299F691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A64A6A-617A-4EDF-9C1B-52023226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1BF93-2514-4475-87ED-A4F61B53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60C48B-A51A-4A7D-A5A3-B90F8A46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5FB32-A6EF-4BB4-95EE-BB7C9D4B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B1F41-521A-460B-8EA4-0EC3D12F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B97B-7864-45BF-B4B6-4E38270D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F63503-9F75-4213-95BA-A8F66F95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83DBCD-B1EC-4BEE-8250-A3DB41224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1CF1BB-04DB-48C2-8C23-6C44AA62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2F06A-8BE9-4EFB-B61B-5EF236F5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BAD9D7-EB4D-4E81-97C3-272E38BA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0D210A-5C3A-461D-94A5-AEC677E8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8E5BEA-0DBC-4BC9-9C8A-027D8C5A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C32E65-F876-4353-9491-DBEB835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23CAE-477E-4487-90BD-0582C55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1923D-0620-4CBF-ACCD-6B419C2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27062-4C4E-48D2-A9F1-D3EF08FB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AEB03-817C-4FED-A535-7B346CC7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B0A87-D437-4A2A-85E3-4F672A85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1898E-EE16-4275-99A1-C626A6C4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CD463-C279-414B-8DEE-1A4C8AE8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4D34-7430-45CB-8B49-5CCE0D2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55325-68E8-4496-A40D-09131908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59F0-59DD-4B2F-BCF1-DFECB73A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B82-5620-4A95-BEE4-58C08B4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FE50-4A5F-47DD-934C-23005925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6500-9551-4A5C-8EA8-19070C04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808C-3F75-4240-B512-04370B5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C3781-6AC1-4367-9EA1-84F0A997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2264-F5AC-48A0-AEC0-50F619A0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D06C-AB2A-4152-B205-86260468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58632-2B5B-4FA7-8EC4-0AAB1111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A87A-737C-46C4-9F2A-9627C8FC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FB65A-2623-46A1-8C8C-E515B9D1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08DD-DBCD-4612-A7E2-7E061BDE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7B8-7840-4FA0-BA70-0CEA1487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55DDB-926E-4193-9AC1-5DFF24A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A710-7BD1-4A53-A16B-93FDBB89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9A62-4E44-400B-A373-F4B996D8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74FF-E78F-4EB4-AB77-FD4C6075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67B0-1174-4DD0-83A5-E29760C7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59CC1-646B-49A2-A01A-360E040C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B5DC-CF51-43C6-BE98-BB7AEA5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A51D9-94B3-4784-B9D2-489FCAC6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9D32-7E9F-4B4A-9A5A-9197854A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D845C-1B2E-4971-88E0-655DF265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83E-5DFA-45C7-B571-FB9C8682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87C0-0A56-45D1-A740-C89DCBE2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0E205-E006-4F93-BC03-B4BBA2AE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03B5F-C303-4929-A81E-840E1301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EB788-191E-48B7-9AC7-1198CA7E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12BC0-E850-4DB8-8EAC-F386BBF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36516-EEB7-49D9-A49D-B178CE5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F887-EBA7-45AF-AF5F-CA9D432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FF07-C927-4D00-B242-9F8035A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7C5C7-7E91-4DFF-A148-D0C5FEA4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30CB8-DE36-4D91-ABE9-953EFEC2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233-FE37-45FA-B939-147E2F3E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F3E90-1DE6-420F-88B8-42126223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242EE-BD06-4842-84E6-91FEC868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DDDF7-DC38-4D9A-B06A-110FBC99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FD985-F8DA-4F5B-A201-3357AC87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F9566-A7EB-43B2-BDDD-2B0F5E0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284C-86CD-42E1-9415-DFF53352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858AC-6A91-4116-8D84-75FA58E3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12F2-67EE-4A99-9DED-1970E9C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8CFAE-3A58-452E-946F-E87027F8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7F6B0-6F68-4198-91E6-EF73699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838-1B45-4D62-A31E-989CAEF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5A09D-03AE-4A2A-A903-143297E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13D51-7BB3-4A3C-9F88-DF9F8872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9E0DA-80BF-4B9F-9AF0-B467683F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438F6-C217-436B-BB53-ABC17F4F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18014-A6CB-41FC-828F-3A2425AE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AEF87-258F-4F8D-AF11-7C50C6A4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3721-A616-4074-8AA3-53FA68E1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C5EC1-D7C0-4C0B-BA4E-D009BD97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6CFB-F37A-4087-930E-1D89E4EF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3569-6840-4311-B3A7-160B2CF2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A97-A81E-4099-9876-1028B7A9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EFEEF-D195-4AB2-BAA7-BC53A1F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34330-BEDA-43D7-8080-0BDB22D6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8526A-3C5C-431C-935B-BA072A7F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AAFF8-22EF-4D7C-8890-3F78DCFF6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C7C1-B9D0-45D6-A550-607FEEF4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53F11-66DE-4046-8919-DDD73A75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38380-29DC-479D-BAB0-D42A8402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D0878-107F-456F-B1D4-1492562D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E40FB-26CA-4BD7-85D7-9E53FB7C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B819D-6916-4D16-821C-E26A0741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2FB-EA6B-4105-BAB9-58AA4F5B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3E4EA-D1F9-4D53-99EB-BF00B0B3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180DC-5562-4123-8AE8-7F094B49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B57C5-1068-4128-A83F-35EF251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FAF6-7F6C-452B-ABA2-623165E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3C0B-ECDB-4BE5-A930-22C35F50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6DB0-8019-4538-AB72-A0A9355F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B79B4-DCF9-48DC-A7C2-19537E6D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7EC26-5134-4DE9-BB00-D6F4D01F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43980-3CAA-490C-AFCE-26CBA0174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EEFC5-7008-4AAB-BE30-F2A7E16A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7CFE-D8C2-4123-B6A7-1D39C6C30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0A02-E685-405F-ABC3-5DD8911A0E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9B81-824E-46B3-8F71-F2B83B656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D0D5-78E0-4E4C-8E51-CFB09A91B4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4281-28F1-4167-AFAB-77DA3D5B45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2E71-C09A-4F1A-90EE-DA3308E37A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8FCC-BDD3-4B02-9B21-CC419AEEEA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9007-7677-44FD-9F3A-8AABB3C635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B45E-2909-4632-9B82-C3EBD8770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15FA-0823-460E-9140-415701439B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DCE8-AF78-4AAE-A8C1-015E90131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BF3B-2433-47EC-AF58-5C7F0C3304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76CE-2912-4103-B711-9DDB4521F2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BCE9-3994-49BA-BA16-435E1FF84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1CC-CFE6-46BB-820B-123C08AF30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F84D-C0E7-478A-92A3-7C8FEAFB8D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10E-6497-48C3-8872-5DEF2B7D69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63EA-E6DE-4B8B-959E-F74F31B4BA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B20A-6565-42C3-8E33-CEEDBFC34A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7680-33C2-448A-B072-6D1080E122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A755-36CE-42E4-B0A4-D40833364B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86C3-8B8B-48FE-A73F-5693DDF54D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3FBC-7BAE-4F31-B639-9143A9CD3A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628D-C0B2-46AD-8AB0-3D874B4D6B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7397-E390-4CCE-948F-326747F0DD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90B-D6D0-4518-AF7D-511DD31525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4E66-84DC-48EF-8611-69C7CB56C4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5457-3799-4FCC-BE71-1582968E9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7647-97E6-4047-AD02-688482E6A9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99D1-E163-4B88-B783-A546F138E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145A-7224-477B-9F9F-F9E770FFC2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B2D-763E-49AB-B528-E20FCF3A2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E56B-8273-4BDB-AA52-1284F4093E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D7D7-CB1A-4CD1-B535-6C7AA5FDA0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0542-1B33-4128-9ED7-1863BC2DD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779-DD5F-4AD2-A37F-AAC520B1A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7AE1-F439-4BED-9A54-E23A66CAA7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787B-7D5A-4520-9B9A-351D5520E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F5E2-F3B1-41B2-89E1-4ABD7E8588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B81C-B931-4E8B-98BE-C0BA992544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2293920" y="3262320"/>
            <a:ext cx="4921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104760" y="1852560"/>
            <a:ext cx="8934480" cy="37911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3286080" y="3286080"/>
            <a:ext cx="571680" cy="32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6000840" y="3286080"/>
            <a:ext cx="571320" cy="3240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1928880" y="3786120"/>
            <a:ext cx="1143000" cy="324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4000680" y="3714840"/>
            <a:ext cx="857160" cy="32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6000840" y="3786120"/>
            <a:ext cx="92844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2643120" y="478620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2143080" y="52149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4857840" y="521496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1" descr=""/>
          <p:cNvPicPr/>
          <p:nvPr/>
        </p:nvPicPr>
        <p:blipFill>
          <a:blip r:embed="rId1"/>
          <a:stretch/>
        </p:blipFill>
        <p:spPr>
          <a:xfrm>
            <a:off x="324000" y="957240"/>
            <a:ext cx="8496000" cy="5686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2"/>
          <a:stretch/>
        </p:blipFill>
        <p:spPr>
          <a:xfrm>
            <a:off x="1285920" y="30718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3"/>
          <a:stretch/>
        </p:blipFill>
        <p:spPr>
          <a:xfrm>
            <a:off x="3357720" y="3071880"/>
            <a:ext cx="379080" cy="3236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4"/>
          <a:stretch/>
        </p:blipFill>
        <p:spPr>
          <a:xfrm>
            <a:off x="5357880" y="3143160"/>
            <a:ext cx="571320" cy="324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5"/>
          <a:stretch/>
        </p:blipFill>
        <p:spPr>
          <a:xfrm>
            <a:off x="7786800" y="314316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3" descr=""/>
          <p:cNvPicPr/>
          <p:nvPr/>
        </p:nvPicPr>
        <p:blipFill>
          <a:blip r:embed="rId6"/>
          <a:stretch/>
        </p:blipFill>
        <p:spPr>
          <a:xfrm>
            <a:off x="1035000" y="5000760"/>
            <a:ext cx="1743120" cy="1247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7"/>
          <a:stretch/>
        </p:blipFill>
        <p:spPr>
          <a:xfrm>
            <a:off x="4222800" y="4975200"/>
            <a:ext cx="1743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2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1" descr=""/>
          <p:cNvPicPr/>
          <p:nvPr/>
        </p:nvPicPr>
        <p:blipFill>
          <a:blip r:embed="rId1"/>
          <a:stretch/>
        </p:blipFill>
        <p:spPr>
          <a:xfrm>
            <a:off x="295200" y="2176560"/>
            <a:ext cx="8553600" cy="2504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2"/>
          <a:stretch/>
        </p:blipFill>
        <p:spPr>
          <a:xfrm>
            <a:off x="1643040" y="4357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3"/>
          <a:stretch/>
        </p:blipFill>
        <p:spPr>
          <a:xfrm>
            <a:off x="3714840" y="4357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4"/>
          <a:stretch/>
        </p:blipFill>
        <p:spPr>
          <a:xfrm>
            <a:off x="6000840" y="435780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5"/>
          <a:stretch/>
        </p:blipFill>
        <p:spPr>
          <a:xfrm>
            <a:off x="8001000" y="4386240"/>
            <a:ext cx="37944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6:12:23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